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720-516A-482F-BDB4-D61B4253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E5F-8303-4165-89CA-E86DE650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826-6CEB-41E3-8F95-0953C81E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73E-54CC-4761-BFB6-508E85DC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DB4-6768-40E6-8EEC-BD007DA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E11-38C9-4A3A-A161-6DB19663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FD7-015F-41F3-B6EA-D5039E1E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8C4-B7B6-441C-A9E6-B1B24AEB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C28-A649-47A0-A71D-9D04B6A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790-2FE3-4490-BD26-8E34F04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5B9-56E7-454C-BDD1-B2ADAA1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4A7-82E0-404F-A854-022FD35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12A9-F0A6-4F6B-9D8A-EA08E59A830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5EA8-1C15-4252-A75F-7B72470689D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793320" y="41648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结与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775600" y="338256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909"/>
                </a:solidFill>
                <a:latin typeface="宋体"/>
              </a:rPr>
              <a:t>第三章 生命起源和生物进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93880" y="22971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7"/>
                </a:solidFill>
                <a:latin typeface="黑体"/>
                <a:ea typeface="黑体"/>
              </a:rPr>
              <a:t>第七单元 生物圈中生命的延续和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30721"/>
          <p:cNvSpPr/>
          <p:nvPr/>
        </p:nvSpPr>
        <p:spPr>
          <a:xfrm>
            <a:off x="847800" y="1886040"/>
            <a:ext cx="782784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生物的进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总体趋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简单→复杂，低等→高等，水生→陆生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物进化的原因是自然选择，人工种植和养殖的生物进化的原因是人工选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30722" descr="3"/>
          <p:cNvPicPr/>
          <p:nvPr/>
        </p:nvPicPr>
        <p:blipFill>
          <a:blip r:embed="rId1"/>
          <a:stretch/>
        </p:blipFill>
        <p:spPr>
          <a:xfrm>
            <a:off x="2610000" y="1066680"/>
            <a:ext cx="380988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15840" y="1509840"/>
          <a:ext cx="7542360" cy="3863880"/>
        </p:xfrm>
        <a:graphic>
          <a:graphicData uri="http://schemas.openxmlformats.org/drawingml/2006/table">
            <a:tbl>
              <a:tblPr/>
              <a:tblGrid>
                <a:gridCol w="1389240"/>
                <a:gridCol w="3024000"/>
                <a:gridCol w="3129120"/>
              </a:tblGrid>
              <a:tr h="51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  <a:ea typeface="微软雅黑"/>
                        </a:rPr>
                        <a:t>比较项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  <a:ea typeface="微软雅黑"/>
                        </a:rPr>
                        <a:t>自然选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  <a:ea typeface="微软雅黑"/>
                        </a:rPr>
                        <a:t>人工选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  <a:ea typeface="微软雅黑"/>
                        </a:rPr>
                        <a:t>选择因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  <a:ea typeface="微软雅黑"/>
                        </a:rPr>
                        <a:t>选择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  <a:ea typeface="微软雅黑"/>
                        </a:rPr>
                        <a:t>选择结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  <a:ea typeface="微软雅黑"/>
                        </a:rPr>
                        <a:t>进化速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矩形 31771"/>
          <p:cNvSpPr/>
          <p:nvPr/>
        </p:nvSpPr>
        <p:spPr>
          <a:xfrm>
            <a:off x="3228840" y="2460600"/>
            <a:ext cx="1395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有利变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1772"/>
          <p:cNvSpPr/>
          <p:nvPr/>
        </p:nvSpPr>
        <p:spPr>
          <a:xfrm>
            <a:off x="5845320" y="2465280"/>
            <a:ext cx="2295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有利于人的变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1773"/>
          <p:cNvSpPr/>
          <p:nvPr/>
        </p:nvSpPr>
        <p:spPr>
          <a:xfrm>
            <a:off x="2606760" y="3233880"/>
            <a:ext cx="25956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保留了能够更好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适应环境的变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1774"/>
          <p:cNvSpPr/>
          <p:nvPr/>
        </p:nvSpPr>
        <p:spPr>
          <a:xfrm>
            <a:off x="5408640" y="3005280"/>
            <a:ext cx="3195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满足了人类的某种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求，但是不一定是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本身的有利变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1775"/>
          <p:cNvSpPr/>
          <p:nvPr/>
        </p:nvSpPr>
        <p:spPr>
          <a:xfrm>
            <a:off x="5772240" y="4621320"/>
            <a:ext cx="2295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时间短、速度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1776"/>
          <p:cNvSpPr/>
          <p:nvPr/>
        </p:nvSpPr>
        <p:spPr>
          <a:xfrm>
            <a:off x="2766960" y="4616280"/>
            <a:ext cx="2295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时间长、速度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1777"/>
          <p:cNvSpPr/>
          <p:nvPr/>
        </p:nvSpPr>
        <p:spPr>
          <a:xfrm>
            <a:off x="3238560" y="1930320"/>
            <a:ext cx="1395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自然环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1778"/>
          <p:cNvSpPr/>
          <p:nvPr/>
        </p:nvSpPr>
        <p:spPr>
          <a:xfrm>
            <a:off x="6694560" y="1940040"/>
            <a:ext cx="496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32769"/>
          <p:cNvSpPr/>
          <p:nvPr/>
        </p:nvSpPr>
        <p:spPr>
          <a:xfrm>
            <a:off x="776160" y="1182600"/>
            <a:ext cx="811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于自然选择学说的理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物在繁殖的过程中，会不断地产生变异，其中能够遗传的变异是生物进化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在不断变化，自然选择使生物处于不断进化的过程中，以适应不断变化的环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选择学说的主要内容及联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遗传和变异是自然选择的内因，遗传保持了生物的稳定性，变异能使物种发展和进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3793"/>
          <p:cNvSpPr/>
          <p:nvPr/>
        </p:nvSpPr>
        <p:spPr>
          <a:xfrm>
            <a:off x="971640" y="1015920"/>
            <a:ext cx="782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度繁殖产生大量个体，不仅为自然选择提供了更多的变异，也加剧了生存斗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存斗争是自然选择的手段，是生物进化的动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适者生存、不适者被淘汰是自然选择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图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33794" descr=""/>
          <p:cNvPicPr/>
          <p:nvPr/>
        </p:nvPicPr>
        <p:blipFill>
          <a:blip r:embed="rId1"/>
          <a:stretch/>
        </p:blipFill>
        <p:spPr>
          <a:xfrm>
            <a:off x="1258920" y="3898800"/>
            <a:ext cx="739296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34817"/>
          <p:cNvSpPr/>
          <p:nvPr/>
        </p:nvSpPr>
        <p:spPr>
          <a:xfrm>
            <a:off x="847800" y="1601640"/>
            <a:ext cx="782784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技巧点拨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生物进化的方法主要是比较法，研究生物进化的主要证据是化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和变异是基础，过度繁殖是前提，生存斗争是手段，适者生存是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是不定向的，自然选择是定向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47106"/>
          <p:cNvSpPr/>
          <p:nvPr/>
        </p:nvSpPr>
        <p:spPr>
          <a:xfrm>
            <a:off x="920880" y="1989000"/>
            <a:ext cx="822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据科学推测，原始大气中没有下列哪种气体物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蒸气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氢气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氧化碳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题考查原始地球环境条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始大气的成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原始大气与现在大气的关键区别是没有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7107"/>
          <p:cNvSpPr/>
          <p:nvPr/>
        </p:nvSpPr>
        <p:spPr>
          <a:xfrm>
            <a:off x="1717560" y="905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随堂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勾2 229"/>
          <p:cNvSpPr/>
          <p:nvPr/>
        </p:nvSpPr>
        <p:spPr>
          <a:xfrm>
            <a:off x="914400" y="932040"/>
            <a:ext cx="431640" cy="506160"/>
          </a:xfrm>
          <a:custGeom>
            <a:avLst/>
            <a:gdLst/>
            <a:ahLst/>
            <a:rect l="l" t="t" r="r" b="b"/>
            <a:pathLst>
              <a:path w="1360" h="1360">
                <a:moveTo>
                  <a:pt x="83" y="161"/>
                </a:moveTo>
                <a:lnTo>
                  <a:pt x="83" y="1274"/>
                </a:lnTo>
                <a:lnTo>
                  <a:pt x="1179" y="1274"/>
                </a:lnTo>
                <a:lnTo>
                  <a:pt x="1179" y="192"/>
                </a:lnTo>
                <a:lnTo>
                  <a:pt x="1081" y="286"/>
                </a:lnTo>
                <a:lnTo>
                  <a:pt x="991" y="387"/>
                </a:lnTo>
                <a:lnTo>
                  <a:pt x="903" y="493"/>
                </a:lnTo>
                <a:lnTo>
                  <a:pt x="822" y="604"/>
                </a:lnTo>
                <a:lnTo>
                  <a:pt x="784" y="660"/>
                </a:lnTo>
                <a:lnTo>
                  <a:pt x="747" y="715"/>
                </a:lnTo>
                <a:lnTo>
                  <a:pt x="715" y="771"/>
                </a:lnTo>
                <a:lnTo>
                  <a:pt x="684" y="825"/>
                </a:lnTo>
                <a:lnTo>
                  <a:pt x="657" y="880"/>
                </a:lnTo>
                <a:lnTo>
                  <a:pt x="632" y="932"/>
                </a:lnTo>
                <a:lnTo>
                  <a:pt x="609" y="986"/>
                </a:lnTo>
                <a:lnTo>
                  <a:pt x="590" y="1038"/>
                </a:lnTo>
                <a:lnTo>
                  <a:pt x="551" y="1063"/>
                </a:lnTo>
                <a:lnTo>
                  <a:pt x="507" y="1095"/>
                </a:lnTo>
                <a:lnTo>
                  <a:pt x="469" y="1128"/>
                </a:lnTo>
                <a:lnTo>
                  <a:pt x="463" y="1109"/>
                </a:lnTo>
                <a:lnTo>
                  <a:pt x="455" y="1086"/>
                </a:lnTo>
                <a:lnTo>
                  <a:pt x="446" y="1059"/>
                </a:lnTo>
                <a:lnTo>
                  <a:pt x="434" y="1026"/>
                </a:lnTo>
                <a:lnTo>
                  <a:pt x="415" y="978"/>
                </a:lnTo>
                <a:lnTo>
                  <a:pt x="400" y="938"/>
                </a:lnTo>
                <a:lnTo>
                  <a:pt x="384" y="903"/>
                </a:lnTo>
                <a:lnTo>
                  <a:pt x="371" y="871"/>
                </a:lnTo>
                <a:lnTo>
                  <a:pt x="355" y="842"/>
                </a:lnTo>
                <a:lnTo>
                  <a:pt x="344" y="815"/>
                </a:lnTo>
                <a:lnTo>
                  <a:pt x="330" y="790"/>
                </a:lnTo>
                <a:lnTo>
                  <a:pt x="319" y="771"/>
                </a:lnTo>
                <a:lnTo>
                  <a:pt x="307" y="754"/>
                </a:lnTo>
                <a:lnTo>
                  <a:pt x="284" y="725"/>
                </a:lnTo>
                <a:lnTo>
                  <a:pt x="261" y="704"/>
                </a:lnTo>
                <a:lnTo>
                  <a:pt x="236" y="691"/>
                </a:lnTo>
                <a:lnTo>
                  <a:pt x="211" y="685"/>
                </a:lnTo>
                <a:lnTo>
                  <a:pt x="229" y="669"/>
                </a:lnTo>
                <a:lnTo>
                  <a:pt x="246" y="656"/>
                </a:lnTo>
                <a:lnTo>
                  <a:pt x="261" y="645"/>
                </a:lnTo>
                <a:lnTo>
                  <a:pt x="277" y="637"/>
                </a:lnTo>
                <a:lnTo>
                  <a:pt x="292" y="629"/>
                </a:lnTo>
                <a:lnTo>
                  <a:pt x="305" y="623"/>
                </a:lnTo>
                <a:lnTo>
                  <a:pt x="321" y="621"/>
                </a:lnTo>
                <a:lnTo>
                  <a:pt x="332" y="620"/>
                </a:lnTo>
                <a:lnTo>
                  <a:pt x="352" y="623"/>
                </a:lnTo>
                <a:lnTo>
                  <a:pt x="369" y="633"/>
                </a:lnTo>
                <a:lnTo>
                  <a:pt x="388" y="648"/>
                </a:lnTo>
                <a:lnTo>
                  <a:pt x="407" y="669"/>
                </a:lnTo>
                <a:lnTo>
                  <a:pt x="426" y="696"/>
                </a:lnTo>
                <a:lnTo>
                  <a:pt x="446" y="729"/>
                </a:lnTo>
                <a:lnTo>
                  <a:pt x="467" y="769"/>
                </a:lnTo>
                <a:lnTo>
                  <a:pt x="488" y="813"/>
                </a:lnTo>
                <a:lnTo>
                  <a:pt x="519" y="882"/>
                </a:lnTo>
                <a:lnTo>
                  <a:pt x="576" y="783"/>
                </a:lnTo>
                <a:lnTo>
                  <a:pt x="640" y="685"/>
                </a:lnTo>
                <a:lnTo>
                  <a:pt x="707" y="591"/>
                </a:lnTo>
                <a:lnTo>
                  <a:pt x="778" y="501"/>
                </a:lnTo>
                <a:lnTo>
                  <a:pt x="855" y="410"/>
                </a:lnTo>
                <a:lnTo>
                  <a:pt x="935" y="324"/>
                </a:lnTo>
                <a:lnTo>
                  <a:pt x="1020" y="242"/>
                </a:lnTo>
                <a:lnTo>
                  <a:pt x="1110" y="161"/>
                </a:lnTo>
                <a:lnTo>
                  <a:pt x="83" y="161"/>
                </a:lnTo>
                <a:lnTo>
                  <a:pt x="83" y="161"/>
                </a:lnTo>
                <a:close/>
                <a:moveTo>
                  <a:pt x="1337" y="0"/>
                </a:moveTo>
                <a:lnTo>
                  <a:pt x="1360" y="46"/>
                </a:lnTo>
                <a:lnTo>
                  <a:pt x="1316" y="79"/>
                </a:lnTo>
                <a:lnTo>
                  <a:pt x="1264" y="119"/>
                </a:lnTo>
                <a:lnTo>
                  <a:pt x="1264" y="1360"/>
                </a:lnTo>
                <a:lnTo>
                  <a:pt x="0" y="1360"/>
                </a:lnTo>
                <a:lnTo>
                  <a:pt x="0" y="77"/>
                </a:lnTo>
                <a:lnTo>
                  <a:pt x="1222" y="77"/>
                </a:lnTo>
                <a:lnTo>
                  <a:pt x="1281" y="35"/>
                </a:lnTo>
                <a:lnTo>
                  <a:pt x="1337" y="0"/>
                </a:lnTo>
                <a:lnTo>
                  <a:pt x="1337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828720" y="3225960"/>
            <a:ext cx="7951680" cy="96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48129"/>
          <p:cNvSpPr/>
          <p:nvPr/>
        </p:nvSpPr>
        <p:spPr>
          <a:xfrm>
            <a:off x="792000" y="1557360"/>
            <a:ext cx="83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研究生物进化的历程，最直接有力的证据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查统计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生物化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胚胎发育的证据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模拟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化石是生物进化最直接有力的证据。因为古生物化石是保存在地层中的古代生物的遗体、遗物或生活痕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792000" y="3338640"/>
            <a:ext cx="8247240" cy="100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49153"/>
          <p:cNvSpPr/>
          <p:nvPr/>
        </p:nvSpPr>
        <p:spPr>
          <a:xfrm>
            <a:off x="776160" y="1477800"/>
            <a:ext cx="782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化石记录显示，在越古老的地层里成为化石的生物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越简单、越低等，水生的越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越复杂、越高等，水生的越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越简单、越低等，陆生的越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越复杂、越高等，陆生的越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50177"/>
          <p:cNvSpPr/>
          <p:nvPr/>
        </p:nvSpPr>
        <p:spPr>
          <a:xfrm>
            <a:off x="776160" y="1440000"/>
            <a:ext cx="782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题考查生物进化的知识。化石是生物的遗体、遗物或生活痕迹，由于种种原因被埋藏在地层中，经过若干万年的复杂变化形成的。化石在地层中的出现具有一定的规律，是生物进化的重要证据。生物进化的总体趋势是由简单到复杂、由低等到高等、由水生到陆生，所以越古老的地层里成为化石的生物是越简单、越低等，水生的越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51201"/>
          <p:cNvSpPr/>
          <p:nvPr/>
        </p:nvSpPr>
        <p:spPr>
          <a:xfrm>
            <a:off x="776160" y="896760"/>
            <a:ext cx="7828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进化树显示了目前科学家对小熊猫、大熊猫、熊和浣熊之间亲缘关系的认识。你认为和大熊猫亲缘关系最近的动物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熊猫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熊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浣熊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北极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51202" descr=""/>
          <p:cNvPicPr/>
          <p:nvPr/>
        </p:nvPicPr>
        <p:blipFill>
          <a:blip r:embed="rId1"/>
          <a:stretch/>
        </p:blipFill>
        <p:spPr>
          <a:xfrm>
            <a:off x="2700360" y="2700360"/>
            <a:ext cx="4089240" cy="25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1507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8244000" cy="2503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371600" y="914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ace"/>
                </a:solidFill>
                <a:latin typeface="Arial"/>
                <a:ea typeface="黑体"/>
              </a:rPr>
              <a:t>知识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录像机 512"/>
          <p:cNvSpPr/>
          <p:nvPr/>
        </p:nvSpPr>
        <p:spPr>
          <a:xfrm>
            <a:off x="835200" y="988920"/>
            <a:ext cx="536400" cy="382680"/>
          </a:xfrm>
          <a:custGeom>
            <a:avLst/>
            <a:gdLst/>
            <a:ahLst/>
            <a:rect l="l" t="t" r="r" b="b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52225"/>
          <p:cNvSpPr/>
          <p:nvPr/>
        </p:nvSpPr>
        <p:spPr>
          <a:xfrm>
            <a:off x="920880" y="1650960"/>
            <a:ext cx="782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题考查对生物的进化及亲缘关系的认识。通过对图的分析可知，大熊猫和浣熊、小熊猫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年前有共同的祖先，而大熊猫和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年前有共同的祖先，两者的亲缘关系最近，因此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53249"/>
          <p:cNvSpPr/>
          <p:nvPr/>
        </p:nvSpPr>
        <p:spPr>
          <a:xfrm>
            <a:off x="631800" y="1200240"/>
            <a:ext cx="7827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列关于生物进化的叙述，不正确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化石是研究生物进化的重要依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物细胞色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差异是研究生物亲缘关系的依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物通过遗传、变异和自然选择不断进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始祖鸟化石证明了爬行类动物是由鸟类进化来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始祖鸟既具备爬行动物的特征，也具备鸟类的特征，说明鸟类和爬行动物具有一定的亲缘关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517680" y="3813120"/>
            <a:ext cx="7807320" cy="10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54273"/>
          <p:cNvSpPr/>
          <p:nvPr/>
        </p:nvSpPr>
        <p:spPr>
          <a:xfrm>
            <a:off x="598320" y="1336680"/>
            <a:ext cx="7828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列有关生物进化的叙述中，不正确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原始大气中有氢、甲烷等气体，不含有氧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始祖鸟可以证明鸟类与爬行类之间存在一定的亲缘关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现代人类是由黑猩猩经过长期自然选择进化而来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物进化的总趋势是由简单到复杂、由低等到高等、由水生到陆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55297"/>
          <p:cNvSpPr/>
          <p:nvPr/>
        </p:nvSpPr>
        <p:spPr>
          <a:xfrm>
            <a:off x="657360" y="1625760"/>
            <a:ext cx="7827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题考查生物的进化。原始大气中有氢、甲烷等气体，不含有氧气；始祖鸟是介于爬行动物与鸟类之间的一类动物，说明鸟类与爬行类之间存在一定的亲缘关系；人类和类人猿都是由森林古猿经过漫长的年代进化而来的；生物进化的总趋势是由简单到复杂、由低等到高等、由水生到陆生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56321"/>
          <p:cNvSpPr/>
          <p:nvPr/>
        </p:nvSpPr>
        <p:spPr>
          <a:xfrm>
            <a:off x="657360" y="1506600"/>
            <a:ext cx="7827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列关于生命起源和生物进化的说法科学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病菌抗药性逐渐增强是长期自然选择的结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物进化的总体趋势之一是由陆生到水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类共同的祖先是亚当和夏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长颈鹿颈变长是努力伸长颈去吃树上叶片的结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57345"/>
          <p:cNvSpPr/>
          <p:nvPr/>
        </p:nvSpPr>
        <p:spPr>
          <a:xfrm>
            <a:off x="631800" y="1819440"/>
            <a:ext cx="7827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题考查生物进化的知识。生物的进化是自然选择的结果；生物进化的总体趋势是由水生到陆生、由简单到复杂、由低等到高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58369"/>
          <p:cNvSpPr/>
          <p:nvPr/>
        </p:nvSpPr>
        <p:spPr>
          <a:xfrm>
            <a:off x="639720" y="1401840"/>
            <a:ext cx="7827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所示的进化树，简要表示了几种生物之间的亲缘关系。从进化树我们可以推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四种生物的共同祖先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地层中出现最早的生物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而言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间的亲缘关系更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高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58370" descr=""/>
          <p:cNvPicPr/>
          <p:nvPr/>
        </p:nvPicPr>
        <p:blipFill>
          <a:blip r:embed="rId1"/>
          <a:stretch/>
        </p:blipFill>
        <p:spPr>
          <a:xfrm>
            <a:off x="5713560" y="2639880"/>
            <a:ext cx="2724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59393"/>
          <p:cNvSpPr/>
          <p:nvPr/>
        </p:nvSpPr>
        <p:spPr>
          <a:xfrm>
            <a:off x="631800" y="1666800"/>
            <a:ext cx="7827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题考查对进化树的理解。分析进化树可以得出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种生物的共同祖先，在地层中出现得最早；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一分支上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在同一分支上，所以较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言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的亲缘关系更近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60417"/>
          <p:cNvSpPr/>
          <p:nvPr/>
        </p:nvSpPr>
        <p:spPr>
          <a:xfrm>
            <a:off x="920880" y="968400"/>
            <a:ext cx="7827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达尔文认为，生物进化的原因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异和隔离的综合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进废退和获得性遗传的综合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异、淘汰和遗传的综合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异、选择和遗传的综合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题考查生物的进化。在生物进化方面达尔文创立了自然选择学说，这种学说认为，生物能不断产生各种变异，有些变异类型能更加适应环境，从而被保留下来，并通过遗传逐代积累。而不能适应环境的变异类型，则逐渐被淘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422280" y="3597120"/>
            <a:ext cx="824688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23553"/>
          <p:cNvSpPr/>
          <p:nvPr/>
        </p:nvSpPr>
        <p:spPr>
          <a:xfrm>
            <a:off x="900000" y="126828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地球上生命的起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23554" descr="1"/>
          <p:cNvPicPr/>
          <p:nvPr/>
        </p:nvPicPr>
        <p:blipFill>
          <a:blip r:embed="rId1"/>
          <a:stretch/>
        </p:blipFill>
        <p:spPr>
          <a:xfrm>
            <a:off x="2843280" y="765000"/>
            <a:ext cx="3809880" cy="687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3556"/>
          <p:cNvSpPr/>
          <p:nvPr/>
        </p:nvSpPr>
        <p:spPr>
          <a:xfrm>
            <a:off x="531720" y="4268880"/>
            <a:ext cx="3549600" cy="7808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无机物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原始大气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水蒸气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氢气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氨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甲烷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等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3557"/>
          <p:cNvSpPr/>
          <p:nvPr/>
        </p:nvSpPr>
        <p:spPr>
          <a:xfrm>
            <a:off x="565200" y="5367240"/>
            <a:ext cx="3724200" cy="457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原始生命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能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生长、生殖、遗传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3558"/>
          <p:cNvSpPr/>
          <p:nvPr/>
        </p:nvSpPr>
        <p:spPr>
          <a:xfrm>
            <a:off x="4992840" y="4846680"/>
            <a:ext cx="2438280" cy="806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独立的多分子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外包原始界膜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3559"/>
          <p:cNvSpPr/>
          <p:nvPr/>
        </p:nvSpPr>
        <p:spPr>
          <a:xfrm>
            <a:off x="6173640" y="3530520"/>
            <a:ext cx="2394000" cy="7844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有机大分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蛋白质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、核酸等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560"/>
          <p:cNvSpPr/>
          <p:nvPr/>
        </p:nvSpPr>
        <p:spPr>
          <a:xfrm>
            <a:off x="3870360" y="2908440"/>
            <a:ext cx="1590480" cy="809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有机小分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氨基酸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等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爆炸形 1 23561"/>
          <p:cNvSpPr/>
          <p:nvPr/>
        </p:nvSpPr>
        <p:spPr>
          <a:xfrm>
            <a:off x="914400" y="2093760"/>
            <a:ext cx="2201760" cy="2011680"/>
          </a:xfrm>
          <a:prstGeom prst="irregularSeal1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原始地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火山爆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箭头 23562"/>
          <p:cNvSpPr/>
          <p:nvPr/>
        </p:nvSpPr>
        <p:spPr>
          <a:xfrm rot="2455200">
            <a:off x="1936800" y="3919680"/>
            <a:ext cx="326880" cy="250560"/>
          </a:xfrm>
          <a:prstGeom prst="rightArrow">
            <a:avLst>
              <a:gd name="adj1" fmla="val 49370"/>
              <a:gd name="adj2" fmla="val 32277"/>
            </a:avLst>
          </a:prstGeom>
          <a:solidFill>
            <a:srgbClr val="5b9bd5">
              <a:alpha val="67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23563"/>
          <p:cNvGrpSpPr/>
          <p:nvPr/>
        </p:nvGrpSpPr>
        <p:grpSpPr>
          <a:xfrm>
            <a:off x="3189600" y="3615840"/>
            <a:ext cx="652320" cy="590040"/>
            <a:chOff x="3189600" y="3615840"/>
            <a:chExt cx="652320" cy="590040"/>
          </a:xfrm>
        </p:grpSpPr>
        <p:sp>
          <p:nvSpPr>
            <p:cNvPr id="57" name="右箭头 23564"/>
            <p:cNvSpPr/>
            <p:nvPr/>
          </p:nvSpPr>
          <p:spPr>
            <a:xfrm rot="19469400">
              <a:off x="3231720" y="3687480"/>
              <a:ext cx="327240" cy="250920"/>
            </a:xfrm>
            <a:prstGeom prst="rightArrow">
              <a:avLst>
                <a:gd name="adj1" fmla="val 49370"/>
                <a:gd name="adj2" fmla="val 32266"/>
              </a:avLst>
            </a:prstGeom>
            <a:solidFill>
              <a:srgbClr val="5b9bd5">
                <a:alpha val="67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23565"/>
            <p:cNvSpPr/>
            <p:nvPr/>
          </p:nvSpPr>
          <p:spPr>
            <a:xfrm>
              <a:off x="3352680" y="3776760"/>
              <a:ext cx="489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3566"/>
          <p:cNvGrpSpPr/>
          <p:nvPr/>
        </p:nvGrpSpPr>
        <p:grpSpPr>
          <a:xfrm>
            <a:off x="5562720" y="3241440"/>
            <a:ext cx="523440" cy="700920"/>
            <a:chOff x="5562720" y="3241440"/>
            <a:chExt cx="523440" cy="700920"/>
          </a:xfrm>
        </p:grpSpPr>
        <p:sp>
          <p:nvSpPr>
            <p:cNvPr id="60" name="右箭头 23567"/>
            <p:cNvSpPr/>
            <p:nvPr/>
          </p:nvSpPr>
          <p:spPr>
            <a:xfrm rot="1806000">
              <a:off x="5718240" y="3306240"/>
              <a:ext cx="326880" cy="250920"/>
            </a:xfrm>
            <a:prstGeom prst="rightArrow">
              <a:avLst>
                <a:gd name="adj1" fmla="val 49370"/>
                <a:gd name="adj2" fmla="val 32230"/>
              </a:avLst>
            </a:prstGeom>
            <a:solidFill>
              <a:srgbClr val="5b9bd5">
                <a:alpha val="67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23568"/>
            <p:cNvSpPr/>
            <p:nvPr/>
          </p:nvSpPr>
          <p:spPr>
            <a:xfrm>
              <a:off x="5562720" y="3513240"/>
              <a:ext cx="48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3569"/>
          <p:cNvGrpSpPr/>
          <p:nvPr/>
        </p:nvGrpSpPr>
        <p:grpSpPr>
          <a:xfrm>
            <a:off x="5913360" y="4297320"/>
            <a:ext cx="713160" cy="519120"/>
            <a:chOff x="5913360" y="4297320"/>
            <a:chExt cx="713160" cy="519120"/>
          </a:xfrm>
        </p:grpSpPr>
        <p:sp>
          <p:nvSpPr>
            <p:cNvPr id="63" name="右箭头 23570"/>
            <p:cNvSpPr/>
            <p:nvPr/>
          </p:nvSpPr>
          <p:spPr>
            <a:xfrm rot="7304400">
              <a:off x="6270120" y="4485960"/>
              <a:ext cx="326880" cy="250920"/>
            </a:xfrm>
            <a:prstGeom prst="rightArrow">
              <a:avLst>
                <a:gd name="adj1" fmla="val 49370"/>
                <a:gd name="adj2" fmla="val 32230"/>
              </a:avLst>
            </a:prstGeom>
            <a:solidFill>
              <a:srgbClr val="5b9bd5">
                <a:alpha val="67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23571"/>
            <p:cNvSpPr/>
            <p:nvPr/>
          </p:nvSpPr>
          <p:spPr>
            <a:xfrm>
              <a:off x="5913360" y="4297320"/>
              <a:ext cx="48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3572"/>
          <p:cNvGrpSpPr/>
          <p:nvPr/>
        </p:nvGrpSpPr>
        <p:grpSpPr>
          <a:xfrm>
            <a:off x="4343400" y="4938840"/>
            <a:ext cx="532800" cy="703440"/>
            <a:chOff x="4343400" y="4938840"/>
            <a:chExt cx="532800" cy="703440"/>
          </a:xfrm>
        </p:grpSpPr>
        <p:sp>
          <p:nvSpPr>
            <p:cNvPr id="66" name="右箭头 23573"/>
            <p:cNvSpPr/>
            <p:nvPr/>
          </p:nvSpPr>
          <p:spPr>
            <a:xfrm rot="8573400">
              <a:off x="4506480" y="5318280"/>
              <a:ext cx="327240" cy="250560"/>
            </a:xfrm>
            <a:prstGeom prst="rightArrow">
              <a:avLst>
                <a:gd name="adj1" fmla="val 49370"/>
                <a:gd name="adj2" fmla="val 32312"/>
              </a:avLst>
            </a:prstGeom>
            <a:solidFill>
              <a:srgbClr val="5b9bd5">
                <a:alpha val="67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23574"/>
            <p:cNvSpPr/>
            <p:nvPr/>
          </p:nvSpPr>
          <p:spPr>
            <a:xfrm>
              <a:off x="4343400" y="4938840"/>
              <a:ext cx="48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24577"/>
          <p:cNvSpPr/>
          <p:nvPr/>
        </p:nvSpPr>
        <p:spPr>
          <a:xfrm>
            <a:off x="971640" y="825480"/>
            <a:ext cx="80182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原始大气的成分与现在相比，不含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命起源阶段，原始地球的环境是高温和宇宙射线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发生在原始大气中的过程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字母填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发生在原始海洋中的过程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字母填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最复杂、最有决定意义的阶段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字母填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6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原始生命的形成过程：原始大气在自然条件的长期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，形成简单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地球温度降低，原始大气中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形成降雨，汇集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，其中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断地相互作用，经过漫长的岁月，形成原始生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4578"/>
          <p:cNvSpPr/>
          <p:nvPr/>
        </p:nvSpPr>
        <p:spPr>
          <a:xfrm>
            <a:off x="5770440" y="801720"/>
            <a:ext cx="1148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氧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579"/>
          <p:cNvSpPr/>
          <p:nvPr/>
        </p:nvSpPr>
        <p:spPr>
          <a:xfrm>
            <a:off x="1139760" y="1806480"/>
            <a:ext cx="2876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紫外线和雷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4580"/>
          <p:cNvSpPr/>
          <p:nvPr/>
        </p:nvSpPr>
        <p:spPr>
          <a:xfrm>
            <a:off x="4916520" y="2327400"/>
            <a:ext cx="50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4581"/>
          <p:cNvSpPr/>
          <p:nvPr/>
        </p:nvSpPr>
        <p:spPr>
          <a:xfrm>
            <a:off x="4842000" y="2828880"/>
            <a:ext cx="1800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B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C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4582"/>
          <p:cNvSpPr/>
          <p:nvPr/>
        </p:nvSpPr>
        <p:spPr>
          <a:xfrm>
            <a:off x="5457960" y="3351240"/>
            <a:ext cx="50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4583"/>
          <p:cNvSpPr/>
          <p:nvPr/>
        </p:nvSpPr>
        <p:spPr>
          <a:xfrm>
            <a:off x="3008160" y="4325760"/>
            <a:ext cx="157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有机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4584"/>
          <p:cNvSpPr/>
          <p:nvPr/>
        </p:nvSpPr>
        <p:spPr>
          <a:xfrm>
            <a:off x="1119240" y="4836960"/>
            <a:ext cx="157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水蒸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4585"/>
          <p:cNvSpPr/>
          <p:nvPr/>
        </p:nvSpPr>
        <p:spPr>
          <a:xfrm>
            <a:off x="4473720" y="4840200"/>
            <a:ext cx="2012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原始海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4586"/>
          <p:cNvSpPr/>
          <p:nvPr/>
        </p:nvSpPr>
        <p:spPr>
          <a:xfrm>
            <a:off x="7172280" y="4824360"/>
            <a:ext cx="157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有机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25601"/>
          <p:cNvSpPr/>
          <p:nvPr/>
        </p:nvSpPr>
        <p:spPr>
          <a:xfrm>
            <a:off x="801720" y="954000"/>
            <a:ext cx="7969320" cy="43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、生物进化的历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总体趋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动物进化的大致历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原生动物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单细胞动物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→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动物→扁形动物→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动物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动物等→棘皮动物→鱼类→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类→爬行类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   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哺乳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603"/>
          <p:cNvSpPr/>
          <p:nvPr/>
        </p:nvSpPr>
        <p:spPr>
          <a:xfrm>
            <a:off x="1101600" y="212076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简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5604"/>
          <p:cNvSpPr/>
          <p:nvPr/>
        </p:nvSpPr>
        <p:spPr>
          <a:xfrm>
            <a:off x="2095560" y="212256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复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605"/>
          <p:cNvSpPr/>
          <p:nvPr/>
        </p:nvSpPr>
        <p:spPr>
          <a:xfrm>
            <a:off x="3371760" y="213984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低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606"/>
          <p:cNvSpPr/>
          <p:nvPr/>
        </p:nvSpPr>
        <p:spPr>
          <a:xfrm>
            <a:off x="4448160" y="212724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高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607"/>
          <p:cNvSpPr/>
          <p:nvPr/>
        </p:nvSpPr>
        <p:spPr>
          <a:xfrm>
            <a:off x="5732640" y="213984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水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5608"/>
          <p:cNvSpPr/>
          <p:nvPr/>
        </p:nvSpPr>
        <p:spPr>
          <a:xfrm>
            <a:off x="6756480" y="213984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陆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609"/>
          <p:cNvSpPr/>
          <p:nvPr/>
        </p:nvSpPr>
        <p:spPr>
          <a:xfrm>
            <a:off x="3898800" y="311940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腔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5610"/>
          <p:cNvSpPr/>
          <p:nvPr/>
        </p:nvSpPr>
        <p:spPr>
          <a:xfrm>
            <a:off x="6843600" y="314316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线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5611"/>
          <p:cNvSpPr/>
          <p:nvPr/>
        </p:nvSpPr>
        <p:spPr>
          <a:xfrm>
            <a:off x="809640" y="412596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软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5612"/>
          <p:cNvSpPr/>
          <p:nvPr/>
        </p:nvSpPr>
        <p:spPr>
          <a:xfrm>
            <a:off x="4870440" y="411480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两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5613"/>
          <p:cNvSpPr/>
          <p:nvPr/>
        </p:nvSpPr>
        <p:spPr>
          <a:xfrm>
            <a:off x="7642080" y="362736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鸟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25614"/>
          <p:cNvSpPr/>
          <p:nvPr/>
        </p:nvSpPr>
        <p:spPr>
          <a:xfrm>
            <a:off x="7051680" y="4573440"/>
            <a:ext cx="371520" cy="37152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5615"/>
          <p:cNvSpPr/>
          <p:nvPr/>
        </p:nvSpPr>
        <p:spPr>
          <a:xfrm flipV="1">
            <a:off x="7042320" y="4111560"/>
            <a:ext cx="401400" cy="40176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26625"/>
          <p:cNvSpPr/>
          <p:nvPr/>
        </p:nvSpPr>
        <p:spPr>
          <a:xfrm>
            <a:off x="920880" y="1684440"/>
            <a:ext cx="7827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植物进化的大致历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藻类植物    苔藓植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裸子植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种子植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植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26626"/>
          <p:cNvSpPr/>
          <p:nvPr/>
        </p:nvSpPr>
        <p:spPr>
          <a:xfrm>
            <a:off x="2190600" y="2558880"/>
            <a:ext cx="5112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6627"/>
          <p:cNvSpPr/>
          <p:nvPr/>
        </p:nvSpPr>
        <p:spPr>
          <a:xfrm>
            <a:off x="2160720" y="2700360"/>
            <a:ext cx="461880" cy="88596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6628"/>
          <p:cNvSpPr/>
          <p:nvPr/>
        </p:nvSpPr>
        <p:spPr>
          <a:xfrm>
            <a:off x="2602080" y="3187800"/>
            <a:ext cx="2808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蕨类植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6629"/>
          <p:cNvSpPr/>
          <p:nvPr/>
        </p:nvSpPr>
        <p:spPr>
          <a:xfrm>
            <a:off x="3867120" y="3592440"/>
            <a:ext cx="5112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左大括号 26630"/>
          <p:cNvSpPr/>
          <p:nvPr/>
        </p:nvSpPr>
        <p:spPr>
          <a:xfrm>
            <a:off x="5697360" y="2941560"/>
            <a:ext cx="220680" cy="1276560"/>
          </a:xfrm>
          <a:custGeom>
            <a:avLst/>
            <a:gdLst>
              <a:gd name="textAreaLeft" fmla="*/ 141120 w 220680"/>
              <a:gd name="textAreaRight" fmla="*/ 221040 w 220680"/>
              <a:gd name="textAreaTop" fmla="*/ 33120 h 1276560"/>
              <a:gd name="textAreaBottom" fmla="*/ 1243440 h 12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6631"/>
          <p:cNvSpPr/>
          <p:nvPr/>
        </p:nvSpPr>
        <p:spPr>
          <a:xfrm>
            <a:off x="6040440" y="3660840"/>
            <a:ext cx="130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被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27649"/>
          <p:cNvSpPr/>
          <p:nvPr/>
        </p:nvSpPr>
        <p:spPr>
          <a:xfrm>
            <a:off x="611280" y="1413000"/>
            <a:ext cx="848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判断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蕨类植物比苔藓植物高等，所以蕨类植物是由苔藓植物进化来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提示：蕨类植物和苔藓植物一样，都是由藻类植物进化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哺乳动物是最高等的动物类群，是由鸟类进化来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提示：哺乳类胎生、哺乳，和鸟类一样由爬行动物进化而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7650"/>
          <p:cNvSpPr/>
          <p:nvPr/>
        </p:nvSpPr>
        <p:spPr>
          <a:xfrm>
            <a:off x="1738440" y="250668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7651"/>
          <p:cNvSpPr/>
          <p:nvPr/>
        </p:nvSpPr>
        <p:spPr>
          <a:xfrm>
            <a:off x="8244000" y="364500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28673"/>
          <p:cNvSpPr/>
          <p:nvPr/>
        </p:nvSpPr>
        <p:spPr>
          <a:xfrm>
            <a:off x="920880" y="981000"/>
            <a:ext cx="782784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、生物进化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过度繁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各种生物普遍具有很强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能力，能够产生大量的后代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存斗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物为获取足够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而进行生存斗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遗传、变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生物进化的内因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自然选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适应者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不适应者被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8675"/>
          <p:cNvSpPr/>
          <p:nvPr/>
        </p:nvSpPr>
        <p:spPr>
          <a:xfrm>
            <a:off x="4079880" y="2166840"/>
            <a:ext cx="14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繁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8676"/>
          <p:cNvSpPr/>
          <p:nvPr/>
        </p:nvSpPr>
        <p:spPr>
          <a:xfrm>
            <a:off x="3174840" y="3174840"/>
            <a:ext cx="3106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食物和空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8677"/>
          <p:cNvSpPr/>
          <p:nvPr/>
        </p:nvSpPr>
        <p:spPr>
          <a:xfrm>
            <a:off x="1871640" y="5210280"/>
            <a:ext cx="14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生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8678"/>
          <p:cNvSpPr/>
          <p:nvPr/>
        </p:nvSpPr>
        <p:spPr>
          <a:xfrm>
            <a:off x="4422600" y="5208480"/>
            <a:ext cx="14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淘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29697"/>
          <p:cNvSpPr/>
          <p:nvPr/>
        </p:nvSpPr>
        <p:spPr>
          <a:xfrm>
            <a:off x="847800" y="2125800"/>
            <a:ext cx="78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师点睛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遗传的变异为进化提供了原始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进化过程中，具有有利变异的个体能够生存下来，具有不利变异的个体被淘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4T03:42:26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